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16BED13-321E-4C06-9AFB-B96866B983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75774DE-F429-4D57-A231-158B9AC19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E9F9041-AACF-40A8-9090-D2730885BC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A3BBF45-8753-4070-B1C4-6E8220EAE1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9EB920-CC8B-4E34-9FF1-BCA0AB2287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3CFB26-1909-4438-87AC-167D181D76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DB9E48-E96A-4C73-A1D4-1853CAC1E8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C6CD7B-35FB-4170-8342-DC45E4E561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5B05EE-2FF2-4243-A78C-B546026201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F7210C-5057-4002-A53F-87598302EF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D7792-7E81-4D1A-BC00-CB6418D6A3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CB0EC40-847D-4AB9-9068-C8AB69863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E2CAFD-12FB-4EA1-81F1-F4820EC0E0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0B024-563D-4969-B81D-51DC721F2B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4C4CE6-72C9-4F0C-BED9-E7F919FEE3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B5D4DC-4266-49D0-80E6-A083DF9C37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1B4E53-0CBC-45C7-AA85-2D685EEB99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0E10CEC-EF53-40C3-9941-7C9D00897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07723F5-6695-49C2-A048-805B7FDB0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F377B34-0B1D-4BE4-A1FE-376F9D62C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9472A6A-852A-49EF-9180-CDF5BFB87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DFA4E85-9C08-4E36-AD9A-9AFE3E323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AFE736E-A880-4016-BEE6-57D8206D1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B879C72-9F97-4472-8793-F4C756B3DA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70E72-4C0D-4A4C-B33B-BD6DC0A02BA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4B47A-9DCB-45D2-9CBD-F0ACCD231FA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Our Plants and Us</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nit Portfolio Presentation</a:t>
            </a:r>
            <a:endParaRPr b="0" lang="en-US" sz="3200" spc="-1" strike="noStrike">
              <a:solidFill>
                <a:srgbClr val="ffffff"/>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umalag, Rj Romnick</a:t>
            </a:r>
            <a:endParaRPr b="0" lang="en-US" sz="2400" spc="-1" strike="noStrike">
              <a:solidFill>
                <a:srgbClr val="ffffff"/>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Yap, Ivy Imari</a:t>
            </a:r>
            <a:endParaRPr b="0" lang="en-US" sz="2400" spc="-1" strike="noStrike">
              <a:solidFill>
                <a:srgbClr val="ffffff"/>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Unit Summary</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Natural resources are essential to life. These surround us before and even today and have existed even before we have discovered their uses. One of the major concerns that arise in society today is the youth’s growing unawareness of the importance of conservation of these natural resources and how we can possibly experience consequences brought by dearth. These modules will provide the Grade 6 students experiences that will pave way to awareness. They will be exposed to different communities that will assist them in discovering.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urriculum-Framing Questions</a:t>
            </a:r>
            <a:endParaRPr b="1" lang="en-US" sz="44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Essential Question </a:t>
            </a:r>
            <a:br>
              <a:rPr sz="3200"/>
            </a:br>
            <a:r>
              <a:rPr b="0" lang="en-US" sz="2800" spc="-1" strike="noStrike">
                <a:solidFill>
                  <a:srgbClr val="ffffff"/>
                </a:solidFill>
                <a:latin typeface="Arial"/>
              </a:rPr>
              <a:t>How can we take part as a student in preserving our resources or our plants? </a:t>
            </a:r>
            <a:endParaRPr b="0" lang="en-US" sz="2800" spc="-1" strike="noStrike">
              <a:solidFill>
                <a:srgbClr val="ffffff"/>
              </a:solidFill>
              <a:latin typeface="Garamond"/>
            </a:endParaRPr>
          </a:p>
          <a:p>
            <a:pPr marL="335880" indent="-3358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Unit Questions</a:t>
            </a:r>
            <a:br>
              <a:rPr sz="3200"/>
            </a:br>
            <a:r>
              <a:rPr b="1" lang="en-US" sz="2800" spc="-1" strike="noStrike">
                <a:solidFill>
                  <a:srgbClr val="ffffff"/>
                </a:solidFill>
                <a:latin typeface="Garamond"/>
              </a:rPr>
              <a:t>Which of your resources came from plants? </a:t>
            </a:r>
            <a:endParaRPr b="0" lang="en-US" sz="2800" spc="-1" strike="noStrike">
              <a:solidFill>
                <a:srgbClr val="ffffff"/>
              </a:solidFill>
              <a:latin typeface="Garamond"/>
            </a:endParaRPr>
          </a:p>
          <a:p>
            <a:pPr marL="335880" indent="-3358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ontent Questions</a:t>
            </a:r>
            <a:endParaRPr b="0" lang="en-US" sz="3200" spc="-1" strike="noStrike">
              <a:solidFill>
                <a:srgbClr val="ffffff"/>
              </a:solidFill>
              <a:latin typeface="Garamond"/>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at are the parts of a plant? </a:t>
            </a:r>
            <a:br>
              <a:rPr sz="2800"/>
            </a:br>
            <a:r>
              <a:rPr b="0" lang="en-US" sz="2800" spc="-1" strike="noStrike">
                <a:solidFill>
                  <a:srgbClr val="ffffff"/>
                </a:solidFill>
                <a:latin typeface="Arial"/>
              </a:rPr>
              <a:t>Why does a plant need to live? </a:t>
            </a:r>
            <a:br>
              <a:rPr sz="2800"/>
            </a:br>
            <a:r>
              <a:rPr b="0" lang="en-US" sz="2800" spc="-1" strike="noStrike">
                <a:solidFill>
                  <a:srgbClr val="ffffff"/>
                </a:solidFill>
                <a:latin typeface="Arial"/>
              </a:rPr>
              <a:t>What are the functions of different plant structures?</a:t>
            </a:r>
            <a:endParaRPr b="0" lang="en-US" sz="2800" spc="-1" strike="noStrike">
              <a:solidFill>
                <a:srgbClr val="ffffff"/>
              </a:solidFill>
              <a:latin typeface="Garamond"/>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Arial"/>
              </a:rPr>
              <a:t>Which of your resources came from plant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the end of the unit, the </a:t>
            </a:r>
            <a:r>
              <a:rPr b="1" lang="en-US" sz="3200" spc="-1" strike="noStrike">
                <a:solidFill>
                  <a:srgbClr val="ffffff"/>
                </a:solidFill>
                <a:latin typeface="Garamond"/>
              </a:rPr>
              <a:t>Grade 6</a:t>
            </a:r>
            <a:r>
              <a:rPr b="0" lang="en-US" sz="3200" spc="-1" strike="noStrike">
                <a:solidFill>
                  <a:srgbClr val="ffffff"/>
                </a:solidFill>
                <a:latin typeface="Garamond"/>
              </a:rPr>
              <a:t> students are expected t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ke a photo essay of their experienc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how through a written reflection their appreciation of resource conservation especially tree conserva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struct ideas for sustainable developmen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1T23:41:32Z</dcterms:created>
  <dc:creator>nave1386</dc:creator>
  <dc:description/>
  <dc:language>en-US</dc:language>
  <cp:lastModifiedBy>nave1386</cp:lastModifiedBy>
  <dcterms:modified xsi:type="dcterms:W3CDTF">2010-09-24T23:51:30Z</dcterms:modified>
  <cp:revision>4</cp:revision>
  <dc:subject/>
  <dc:title>Uses of Plants</dc:title>
</cp:coreProperties>
</file>